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chomp.wav" ContentType="audio/x-wav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dt" idx="6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5"/>
          <p:cNvSpPr>
            <a:spLocks noGrp="1"/>
          </p:cNvSpPr>
          <p:nvPr>
            <p:ph type="ftr" idx="6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6"/>
          <p:cNvSpPr>
            <a:spLocks noGrp="1"/>
          </p:cNvSpPr>
          <p:nvPr>
            <p:ph type="sldNum" idx="6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ABAC-743B-4F62-A9B0-BD4C94336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ground = red 79; green 98; blue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 Cretaceous = when dinosaurs became extin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8A35-DB0F-48E4-B8DD-3776254369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3AEF-CDA0-44CD-8127-5B71D35747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618E-A5E1-47B3-BCCC-B8D2C640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5A1-5139-486E-A196-8EA86D0E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5314D-1531-4B23-BF79-89ABD2E8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D3E8E-73D1-4D01-9841-EB4A92F2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4063A-1245-40A5-882E-F69C85EC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642E4-D116-4727-BB39-F3BE9E5E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A28BA-E161-463E-9849-DA98A488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EB047-EE89-4424-B016-D63C47BD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EE9EF-836A-45B8-9CEE-180FDF55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0C779-3E63-4D9D-9D44-F423868B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C9C6C-92B6-4DC8-B8D7-E0D0AF97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56DC3-5AC4-4003-A976-C0219429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D68-C57A-47BE-8537-E69B6623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5B9A4-EE38-431F-AECB-AFF30872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06F0C-5842-4212-84D9-6A4FEB37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7A4A0-E8C0-4621-AD31-45ABD815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6E9BA-6225-4BF8-BF37-156A39AA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3F7B2-15CD-435C-84CF-B882E235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CCDA4-1C38-4456-B2C7-CFB8223F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56A9D-3567-4160-A26D-9BDFD3A8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80989-8937-4698-ADA7-1B2CEEA7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CF7DA-6E0B-449E-A14E-7F698460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F3A6F-3D85-43AE-92F5-88AF9724D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626E-28CF-4B51-BD51-545D5AF1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C756F-E2B5-4794-B1FA-56D17928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97E9F-25A3-4693-ACF5-F83520D0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8E408-4880-4411-A513-39072020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76F21-B22B-4A4C-9E2D-152E1A53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8EB17-949F-4980-B88F-8CB91B8D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83ACE-8EFC-44B6-A90A-77FE514B2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83E32-30A4-4048-85E4-00EFB055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EDDFD-68F8-4AB8-84AC-86F926D8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ACBA6-6C76-4FF9-AD41-923B85A4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FA239-7DE6-474A-A7FA-09152AF0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87126-4628-4F60-9750-1F1E1537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D3B72-6046-4C1A-8182-D8E92BAC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36F24-5F6E-4851-B246-B9E221660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3B4A5-BD7F-4A4D-AFD2-D51E61AE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03001-A34A-4D19-A2BA-1617283E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0345B-E285-4F1C-8706-3908D61C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699E1-85D3-40ED-BC4E-4B8DC4D1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6E06B-CDA4-4E7D-8FBC-54B675A5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01C22-A797-4C92-AE86-C46E1586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1CF00-DC19-4535-B52E-0AEF6638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6BECC-5CCE-4FB4-A2E7-8DED9A38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E9ED7-66DD-44E4-B234-26A2E38F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EB00A-95BF-4B9C-A7A3-522FE31A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FC1B9-C956-411A-81C3-A9B79D403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462C6-D096-4BAF-A5B9-133A23D7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4B07E-6B85-4ACB-AA76-A901B243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7D4F5-3961-498F-859F-FF241570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20D43E-3FFE-4E93-B200-39A20A97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0B0D8-9D25-4A77-841C-CA837AA7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78996-65DF-4218-84E9-ACB587A1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03FB4-21CE-4347-830A-33FF652B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1CB79-52C6-4111-ABF1-ED267C77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9DA4E8-6470-4385-9F80-5DEFE15A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3D8F36-2E84-4521-95C7-00331232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1187F-949A-4ECF-B680-2DF116DD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C60C9-FF4D-4B83-AF94-ACBDAA5F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BE0E5-B03E-4868-87A9-525F3EE6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AEF854-8DC5-4A25-B636-9E5F1348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41D8C-3003-4605-8838-15BF67B0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C0377-D7E9-427B-8AB0-0A3D0316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340CF-CAEF-4B29-9793-58B161F5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DEAD1-CE11-47BC-B0D9-6D854917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605E5-E05F-4F8D-97FD-016A4055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B944C5-1C68-4FCA-9350-C0379C98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A24CF-2168-4900-823A-C97F7A77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C3B7A-8FA4-4D39-910A-3517AF73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80FD3-685C-4B35-95FB-8510D2A0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138FC-A65E-4580-8D07-D6404FFF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4197A-A900-4E87-A587-B85E6E70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FC921-663C-4CC8-B19B-A0AF9DA5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12DEA-EB74-419F-96CC-81BE1121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82D36-472F-4378-85B4-EA7EE067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61AB4-E520-49CF-9AFF-F5FC6A61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0805D-5F43-40E8-8704-1DBA4284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228F2-2A7F-4C7B-BB28-02A2CC45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2EF48-18FC-47BC-9458-78256E0A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0CF12-2774-464C-AC69-CC851035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DDEAD-EBB3-4779-8BAA-D5FB230B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60F0C-4A56-4B6E-BCBA-9DA872BD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4552B-0E5F-45CF-90D4-C302D7C2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2657A-62CF-483B-A179-FC82FC29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BA36D-D82B-4C42-B2E4-09D1E799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A8B01-A410-43CE-B2A2-BE1ABBD8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A3D5C-401D-4154-91D6-7EEF4497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55C6E-A1A5-4BC1-BD82-617C51D4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23D01-060B-4DEA-836F-ACBEC240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26BDE-AC51-4327-90B7-D90FA0E8A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50027-FAB2-43BB-A43B-AD831C00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DB4CD-3A90-4640-B56B-DD274CB4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44483-F4EF-4E15-A478-2539C1FD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D502AA-560A-410B-B4F5-E274441F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D59656-7CAD-4E92-B437-8EBF8525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327A6-D31C-4605-A5F6-47732CC9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80D9E5-E15B-4080-AFC7-63CAFE44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11F5C-BCAA-4116-814D-BE922605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05548F-9EAB-43CE-BDE8-F54F5B6B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546B7-452E-4E88-B8F7-0ADC5782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3063EE-11D0-4996-9608-0F3A1733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E9FCF-6BF5-44A7-8600-064A32DB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24D6EC-8D33-4C0A-ABA4-263F3DF5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4DC7-36B4-4C73-B654-D485EB42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8A3448-1FC7-45F4-9291-1CCA408D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68D75-1BF5-4028-9F39-32F82474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359FC2-752E-477B-8C1A-60862DF0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74194C-1A22-4C23-BC49-9C2DFB13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601C82-7585-4029-B98C-4A67FBC93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A3E22-A1E3-4E36-9EF8-D5A0E888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01DD76-80DE-4949-90D5-27397A16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A68CBD-4C70-4F83-BFF3-2ADB8AD1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C1BBD7-C46F-4797-ACDB-3639EF8D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5E07A4-2777-45B6-9280-577F2BFD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0CE989-E64F-4D7D-AAE2-14EA2720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BDFEAF-B9D2-4AB5-B3EF-27258634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5AD9D-BEDD-485F-9383-44CEBDA1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C08A1-E474-409D-B3EC-789FFCC7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EBCF89-09A9-4E2F-B2B0-0732244E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8608D-58B5-4328-AA2B-7BE1DDE3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51380-2302-4A92-BECF-FB3877EC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6B14C5-6C1B-457F-B4A9-BA3E731F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8F943B-1BCC-4F74-BFC9-EBD0A515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8FAA09-D84C-403B-BAA4-9664CBBF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C8CDCE-A830-4442-96F5-166814A1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C52D76-04FA-4E9E-9D5E-D85FB291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648BE-8237-4DEB-B790-54660467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5DBF36-2626-4925-B350-BC3A830B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3D3E8-87E0-4256-996D-200CAEDB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B649B7-3B67-4A60-8C53-6FA3FA32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1521D9-D4E7-4413-8DD8-DF0E8B6C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448D08-D9D5-4517-A8B3-D3990521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AC904-44AD-429F-A438-196B5BF8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523011-9BBC-45F7-8BFF-85ED9A06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3F01C9-EBE4-44E3-9937-D18985CA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39B11A-8632-4D18-9B85-DBB2D88F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91B82A-D700-44AD-900C-049BFA53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8CF22E-8930-454F-A496-B5FFAF91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9FACA-74F0-46C8-916B-665AE8BA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D09226-861A-43E9-BCCA-0D214E71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8C852B-2D95-48F5-8FAB-5171F1CE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8E6350-0100-4397-A623-02DB3C4C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22A8E8-7425-45D9-9DB4-2C34B98F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A4CDA9-40A4-447A-9513-EBD56D4E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6A6A78-D2C0-4989-BA14-98266649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58C9FF-0832-47AB-BFE2-967FC533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51C478-F9F0-4089-BBCC-60E8B74D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320FD1-16AD-4CFA-9F74-CDD72488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2726AD-7D4E-4D90-9300-9D64A01A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804FF8-9D5D-4C60-83F7-11C43C96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9F81DA-BFFD-4DFF-8A02-C1F5DA84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826E26-B9DD-4143-986C-105DEC04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8D9730-9E26-45E5-855F-21AE6962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E85514-39C4-4CF5-87B8-D58FA799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36E0D7-FE09-454C-8286-E21873DB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4F5E4F-C327-4EE4-8928-94CCF277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7CE87-4694-496F-BE18-08146ADDB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B3435A-3120-4018-926D-D03DD984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280E0C-720D-4A6A-8F76-3ADC23B9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1E797E-10A6-4CCD-834A-847E226E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FA3A26-2392-48F9-8035-4C3E52A6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3FF71B-69E0-4DA0-A24C-FECE1E0A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FADC44-8848-425B-A53E-06E9F695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E54D34-4327-4194-9AF9-99172B64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A0930A-6BFC-4722-868D-E22BA559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BF821C-4E0E-4DAA-8F5B-CE4258E8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669406-B2EC-4631-AB28-574EE2A4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8D8980-FBBE-4D23-9EB4-0EFE2925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C2D630-8F0B-4B0E-9EAA-00411B6F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394E25-AF82-4128-AB9A-9E122687E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B7709A-9412-44FA-A96A-01077438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3E0D2F-9570-49FD-94B9-23F54E4C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394DA3-7BBE-4149-9CAF-F9C278BC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6979CD-31C8-4DF5-B16A-3743FC24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DACA5E-6EA8-4E86-8EBB-0C30BD64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723472-7C14-4BA0-8E81-D7787EDB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F2B6D3-8153-4A47-B0BD-6F0A49BC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1C39E5-B6D9-4121-8AFA-7EA05183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A2AB22-7EB2-4CCB-B402-BFFCAA5A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BCE4EA-CA30-4623-A99A-D183EA14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2239E9-E2F9-4159-821B-8445632D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4655A8-D202-4BB3-B0FE-36466D3F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E13AEA-2F98-4FF7-B19E-B1358878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6FE2D0-C87B-426A-9F5B-71325764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4F3CBA-386B-4A35-8926-9B065990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82EB9B-0DE1-403D-9F40-545D5184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77613F-268B-439C-BF7F-AC00FA4CB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AFAE0A-6CF6-4315-9674-AAA0B81A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3703B0-C59D-4A72-BEBE-586ABDD4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EA98F2-8E12-4D91-A3CA-3C4694CB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E1E916-A418-47C9-8F4A-2EEF4C7E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6DD714-A686-4A14-9245-F75CF575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A20267-3A50-4A9F-A9A4-4AA47AC2F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CFEB-E790-4357-AC9C-1394546B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800-07B8-4F37-8DD8-561D671C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23F5-1740-49B8-9D4C-4C479E47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9F7-346B-4584-8426-36A93262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63F2-5AD6-4171-B41E-A07D457C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12B8-306D-4C6F-B71B-974D47DB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3A5B-50ED-448D-83D5-1B018D27C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7934-F4C5-4A55-AC97-C698574C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6EDD-2A66-4299-A401-43679C06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690F-5CD8-4A6B-B361-E5994E95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15D5-55C4-49B3-AD26-DBCA6A4E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3E0B-F24C-4F1A-85CD-8F29D413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5048-9F05-4006-A3C1-E5CF3601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0D92-7DC6-40F6-BFAF-CCEEEF6D0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EC8-0580-46A1-82C8-300C999E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3E921-2B01-4D73-B0A2-CE336842B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5552-7DD4-4930-97CE-499A4AEB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18226-5A00-4C72-8DA6-F94F513B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A4B64-C798-44CD-86F8-45D96227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DDBE9-1AD5-4EF0-B3D3-4D06689A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E501F-9BAE-4B92-8EB8-969C8383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B40D1-7141-4B2A-B2FC-74865582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36DD4-EFB8-4BA3-89D8-1E10400C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6371A-60B5-4334-9648-0A4A6A87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F8AE8-F6DF-41C7-8B1F-E7F53FBB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F43-04AB-4AA2-871D-1BDA5FC6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6F20-7A46-42B4-9591-6A3991BF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37B96-4EE3-4E97-8716-FBB124D4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4931F-47C8-4FB6-8BA7-309E7A80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07958-76A7-452A-AE73-19536748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5E734-0713-4FB4-B097-3758795E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662C1-CF84-4237-9D4A-D8610A64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EDD4E-B501-4198-9008-AEA699C6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D4F5A-DE4F-41DE-AEFA-6374C4FDF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E4333-B8C3-404D-A07B-B0D89286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8B79E-F86E-4D6C-BDEB-635113A6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4360-E742-41DE-8102-98D7CE62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6DE79-92B4-4A6A-918E-D1EA6AD7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5953-5954-4B7A-8DD4-9BC506BF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88A6D-FF45-4F58-BC39-1C11D1C4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F58B4-D0D4-4619-88F2-94E30A860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8A9DE-5578-4A37-BFAF-BE7D4C97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BF463-7521-4E35-AAE4-D18CB05AF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B3875-DE0D-4088-9566-6576C8E7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6C045-C25A-4C50-9B53-E8AC7ACB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17963-A529-459C-BF1F-6B1173DA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F881C-D912-458D-BC24-23537CB3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ECAB-68E3-4411-B20E-6FEC583F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6BE90-4973-46CB-ADA2-B33DB7F8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B556A-BB00-4F1C-BDC7-B9FBB521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ECAED-BA7A-4D19-BBCC-469B6CD3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AECFA-8F2D-49A1-823C-4A2A1A10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1A4E2-F85F-442F-A609-BD7AD06D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55252-689C-439E-A326-D741F32B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D4DA5-9980-442E-BB6E-5FB5125B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ABE77-C3E2-4702-B448-BC62E176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72CE4-A51F-44AC-A1C0-49AC14A9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43C1F-4D65-4872-9D7F-943E06A6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1AAA-D585-43AD-A53F-83A8706C093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15D7-7B97-459D-B5D6-398C0CB833B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C8FA-E54F-4626-9972-076C3990A2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6B34-B2FA-40D4-A55B-40BC5C1B51C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D29D-D3CE-401F-AD93-4780518AA0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DB18-463D-4F0F-BB4D-8469B06CCA5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66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66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67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67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68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68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B7A2-AEF1-40C0-95A6-914C2F93E1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3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3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4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4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5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6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4FFF-3BB7-4D5B-BCD9-D036BA8E63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0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0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1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1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2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3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6FC4-F8B3-4FE5-8026-248C3A69C75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7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8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8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9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0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5319-8499-4720-9212-4F95CA4BF0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4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5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5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6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6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7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7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7CE6-3C25-4167-9CD9-E7A3EE43C46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1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2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2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3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3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4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8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3789-8EF5-497A-B8BF-2E16869381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8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9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9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0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0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1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9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DD4F-98F7-48A7-A9D8-5756FC6CED3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6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6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6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7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7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8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0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ECD7-4D84-4DB6-A8F0-2BBD8C4937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3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3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4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4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5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5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1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7090-3991-43FC-8AD5-A5DD7524BC2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0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0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1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1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2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2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2" name="PlaceHolder 1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5636-3686-411A-BA87-82D56C5C51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7576-DF01-46C5-86A2-0530C69FB7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6AD9-B40A-4B70-803C-BA999E7091D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4CA0-4E8D-4583-AA6F-7456D6BF0C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709C-6FF3-4846-B661-D7713F51739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E4E4-25ED-4940-A434-649B4DF5853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0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81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4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Picture 6" descr="point01.jpg"/>
          <p:cNvPicPr/>
          <p:nvPr/>
        </p:nvPicPr>
        <p:blipFill>
          <a:blip r:embed="rId1"/>
          <a:stretch/>
        </p:blipFill>
        <p:spPr>
          <a:xfrm>
            <a:off x="3124080" y="2286000"/>
            <a:ext cx="2436840" cy="39495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7" descr="point01.jpg"/>
          <p:cNvPicPr/>
          <p:nvPr/>
        </p:nvPicPr>
        <p:blipFill>
          <a:blip r:embed="rId2"/>
          <a:stretch/>
        </p:blipFill>
        <p:spPr>
          <a:xfrm>
            <a:off x="3124080" y="2286000"/>
            <a:ext cx="2438640" cy="3921120"/>
          </a:xfrm>
          <a:prstGeom prst="rect">
            <a:avLst/>
          </a:prstGeom>
          <a:ln w="0">
            <a:noFill/>
          </a:ln>
        </p:spPr>
      </p:pic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itles Before Name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2" name=""/>
          <p:cNvSpPr txBox="1"/>
          <p:nvPr/>
        </p:nvSpPr>
        <p:spPr>
          <a:xfrm>
            <a:off x="456840" y="2437920"/>
            <a:ext cx="29718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fessor St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cle J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Oba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"/>
          <p:cNvSpPr txBox="1"/>
          <p:nvPr/>
        </p:nvSpPr>
        <p:spPr>
          <a:xfrm>
            <a:off x="5562720" y="2438280"/>
            <a:ext cx="30477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rsing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of our stamp collecting clu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Rounded Rectangular Callout 4"/>
          <p:cNvSpPr/>
          <p:nvPr/>
        </p:nvSpPr>
        <p:spPr>
          <a:xfrm>
            <a:off x="2133720" y="5410080"/>
            <a:ext cx="1981080" cy="1067040"/>
          </a:xfrm>
          <a:prstGeom prst="wedgeRoundRectCallout">
            <a:avLst>
              <a:gd name="adj1" fmla="val 46189"/>
              <a:gd name="adj2" fmla="val -1943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Rounded Rectangular Callout 5"/>
          <p:cNvSpPr/>
          <p:nvPr/>
        </p:nvSpPr>
        <p:spPr>
          <a:xfrm>
            <a:off x="5486400" y="5486400"/>
            <a:ext cx="2743200" cy="1143000"/>
          </a:xfrm>
          <a:prstGeom prst="wedgeRoundRectCallout">
            <a:avLst>
              <a:gd name="adj1" fmla="val -75597"/>
              <a:gd name="adj2" fmla="val -18867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Picture 6" descr="point01.jpg"/>
          <p:cNvPicPr/>
          <p:nvPr/>
        </p:nvPicPr>
        <p:blipFill>
          <a:blip r:embed="rId1"/>
          <a:stretch/>
        </p:blipFill>
        <p:spPr>
          <a:xfrm>
            <a:off x="3240000" y="2286000"/>
            <a:ext cx="2205000" cy="3949560"/>
          </a:xfrm>
          <a:prstGeom prst="rect">
            <a:avLst/>
          </a:prstGeom>
          <a:ln w="0">
            <a:noFill/>
          </a:ln>
        </p:spPr>
      </p:pic>
      <p:pic>
        <p:nvPicPr>
          <p:cNvPr id="1427" name="Picture 7" descr="point01.jpg"/>
          <p:cNvPicPr/>
          <p:nvPr/>
        </p:nvPicPr>
        <p:blipFill>
          <a:blip r:embed="rId2"/>
          <a:stretch/>
        </p:blipFill>
        <p:spPr>
          <a:xfrm>
            <a:off x="3200400" y="2327400"/>
            <a:ext cx="2286000" cy="3921120"/>
          </a:xfrm>
          <a:prstGeom prst="rect">
            <a:avLst/>
          </a:prstGeom>
          <a:ln w="0">
            <a:noFill/>
          </a:ln>
        </p:spPr>
      </p:pic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Specific Place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456840" y="2437920"/>
            <a:ext cx="29718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o’s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o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w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k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or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5562720" y="2438280"/>
            <a:ext cx="30477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o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nd outs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m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1" name="Rounded Rectangular Callout 4"/>
          <p:cNvSpPr/>
          <p:nvPr/>
        </p:nvSpPr>
        <p:spPr>
          <a:xfrm>
            <a:off x="1143000" y="4648320"/>
            <a:ext cx="1981080" cy="1066680"/>
          </a:xfrm>
          <a:prstGeom prst="wedgeRoundRectCallout">
            <a:avLst>
              <a:gd name="adj1" fmla="val 82666"/>
              <a:gd name="adj2" fmla="val -19015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Rounded Rectangular Callout 5"/>
          <p:cNvSpPr/>
          <p:nvPr/>
        </p:nvSpPr>
        <p:spPr>
          <a:xfrm>
            <a:off x="5257800" y="5181480"/>
            <a:ext cx="2743200" cy="1143000"/>
          </a:xfrm>
          <a:prstGeom prst="wedgeRoundRectCallout">
            <a:avLst>
              <a:gd name="adj1" fmla="val -59916"/>
              <a:gd name="adj2" fmla="val -22467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Picture 6" descr="point01.jpg"/>
          <p:cNvPicPr/>
          <p:nvPr/>
        </p:nvPicPr>
        <p:blipFill>
          <a:blip r:embed="rId1"/>
          <a:stretch/>
        </p:blipFill>
        <p:spPr>
          <a:xfrm>
            <a:off x="3124080" y="2590920"/>
            <a:ext cx="2436840" cy="328284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7" descr="point01.jpg"/>
          <p:cNvPicPr/>
          <p:nvPr/>
        </p:nvPicPr>
        <p:blipFill>
          <a:blip r:embed="rId2"/>
          <a:stretch/>
        </p:blipFill>
        <p:spPr>
          <a:xfrm>
            <a:off x="3124080" y="2581200"/>
            <a:ext cx="2438640" cy="3286080"/>
          </a:xfrm>
          <a:prstGeom prst="rect">
            <a:avLst/>
          </a:prstGeom>
          <a:ln w="0">
            <a:noFill/>
          </a:ln>
        </p:spPr>
      </p:pic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Organization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6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ld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dlif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ican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ors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hout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vironmental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gency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pons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ical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anitarian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ga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Rounded Rectangular Callout 4"/>
          <p:cNvSpPr/>
          <p:nvPr/>
        </p:nvSpPr>
        <p:spPr>
          <a:xfrm>
            <a:off x="1981080" y="5638680"/>
            <a:ext cx="1981440" cy="1067040"/>
          </a:xfrm>
          <a:prstGeom prst="wedgeRoundRectCallout">
            <a:avLst>
              <a:gd name="adj1" fmla="val 56962"/>
              <a:gd name="adj2" fmla="val -29287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Rounded Rectangular Callout 5"/>
          <p:cNvSpPr/>
          <p:nvPr/>
        </p:nvSpPr>
        <p:spPr>
          <a:xfrm>
            <a:off x="5029200" y="5410080"/>
            <a:ext cx="2743200" cy="1143000"/>
          </a:xfrm>
          <a:prstGeom prst="wedgeRoundRectCallout">
            <a:avLst>
              <a:gd name="adj1" fmla="val -66708"/>
              <a:gd name="adj2" fmla="val -26067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8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Picture 6" descr="point01.jpg"/>
          <p:cNvPicPr/>
          <p:nvPr/>
        </p:nvPicPr>
        <p:blipFill>
          <a:blip r:embed="rId1"/>
          <a:stretch/>
        </p:blipFill>
        <p:spPr>
          <a:xfrm>
            <a:off x="3124080" y="2341440"/>
            <a:ext cx="2436840" cy="383868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7" descr="point01.jpg"/>
          <p:cNvPicPr/>
          <p:nvPr/>
        </p:nvPicPr>
        <p:blipFill>
          <a:blip r:embed="rId2"/>
          <a:stretch/>
        </p:blipFill>
        <p:spPr>
          <a:xfrm>
            <a:off x="3124080" y="2362320"/>
            <a:ext cx="2438640" cy="3841560"/>
          </a:xfrm>
          <a:prstGeom prst="rect">
            <a:avLst/>
          </a:prstGeom>
          <a:ln w="0">
            <a:noFill/>
          </a:ln>
        </p:spPr>
      </p:pic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mpanie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bucks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p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a-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a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pan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pl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pl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puter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ufactur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Rounded Rectangular Callout 4"/>
          <p:cNvSpPr/>
          <p:nvPr/>
        </p:nvSpPr>
        <p:spPr>
          <a:xfrm>
            <a:off x="2133720" y="5410080"/>
            <a:ext cx="1981080" cy="1067040"/>
          </a:xfrm>
          <a:prstGeom prst="wedgeRoundRectCallout">
            <a:avLst>
              <a:gd name="adj1" fmla="val 59268"/>
              <a:gd name="adj2" fmla="val -24287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Rounded Rectangular Callout 5"/>
          <p:cNvSpPr/>
          <p:nvPr/>
        </p:nvSpPr>
        <p:spPr>
          <a:xfrm>
            <a:off x="5562720" y="4952880"/>
            <a:ext cx="2743200" cy="1143000"/>
          </a:xfrm>
          <a:prstGeom prst="wedgeRoundRectCallout">
            <a:avLst>
              <a:gd name="adj1" fmla="val -92263"/>
              <a:gd name="adj2" fmla="val -19133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3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6" descr="point01.jpg"/>
          <p:cNvPicPr/>
          <p:nvPr/>
        </p:nvPicPr>
        <p:blipFill>
          <a:blip r:embed="rId1"/>
          <a:stretch/>
        </p:blipFill>
        <p:spPr>
          <a:xfrm>
            <a:off x="2971800" y="3048120"/>
            <a:ext cx="2436840" cy="3390840"/>
          </a:xfrm>
          <a:prstGeom prst="rect">
            <a:avLst/>
          </a:prstGeom>
          <a:ln w="0">
            <a:noFill/>
          </a:ln>
        </p:spPr>
      </p:pic>
      <p:pic>
        <p:nvPicPr>
          <p:cNvPr id="1448" name="Picture 7" descr="point01.jpg"/>
          <p:cNvPicPr/>
          <p:nvPr/>
        </p:nvPicPr>
        <p:blipFill>
          <a:blip r:embed="rId2"/>
          <a:stretch/>
        </p:blipFill>
        <p:spPr>
          <a:xfrm>
            <a:off x="2971800" y="3048120"/>
            <a:ext cx="2438280" cy="3392280"/>
          </a:xfrm>
          <a:prstGeom prst="rect">
            <a:avLst/>
          </a:prstGeom>
          <a:ln w="0">
            <a:noFill/>
          </a:ln>
        </p:spPr>
      </p:pic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Product Name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pucci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wer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zen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ok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Rounded Rectangular Callout 4"/>
          <p:cNvSpPr/>
          <p:nvPr/>
        </p:nvSpPr>
        <p:spPr>
          <a:xfrm>
            <a:off x="2133720" y="5410080"/>
            <a:ext cx="1981080" cy="1067040"/>
          </a:xfrm>
          <a:prstGeom prst="wedgeRoundRectCallout">
            <a:avLst>
              <a:gd name="adj1" fmla="val 93115"/>
              <a:gd name="adj2" fmla="val -22287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Rounded Rectangular Callout 5"/>
          <p:cNvSpPr/>
          <p:nvPr/>
        </p:nvSpPr>
        <p:spPr>
          <a:xfrm>
            <a:off x="4495680" y="5334120"/>
            <a:ext cx="2743200" cy="1143000"/>
          </a:xfrm>
          <a:prstGeom prst="wedgeRoundRectCallout">
            <a:avLst>
              <a:gd name="adj1" fmla="val -88375"/>
              <a:gd name="adj2" fmla="val -20200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8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Picture 6" descr="point01.jpg"/>
          <p:cNvPicPr/>
          <p:nvPr/>
        </p:nvPicPr>
        <p:blipFill>
          <a:blip r:embed="rId1"/>
          <a:stretch/>
        </p:blipFill>
        <p:spPr>
          <a:xfrm>
            <a:off x="3124080" y="2286000"/>
            <a:ext cx="2436840" cy="394956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7" descr="point01.jpg"/>
          <p:cNvPicPr/>
          <p:nvPr/>
        </p:nvPicPr>
        <p:blipFill>
          <a:blip r:embed="rId2"/>
          <a:stretch/>
        </p:blipFill>
        <p:spPr>
          <a:xfrm>
            <a:off x="3124080" y="2286000"/>
            <a:ext cx="2438640" cy="3921120"/>
          </a:xfrm>
          <a:prstGeom prst="rect">
            <a:avLst/>
          </a:prstGeom>
          <a:ln w="0">
            <a:noFill/>
          </a:ln>
        </p:spPr>
      </p:pic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Religion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ddh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h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y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ven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5562360" y="2438280"/>
            <a:ext cx="3352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itation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t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etar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ur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ship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Rounded Rectangular Callout 4"/>
          <p:cNvSpPr/>
          <p:nvPr/>
        </p:nvSpPr>
        <p:spPr>
          <a:xfrm>
            <a:off x="2133720" y="5410080"/>
            <a:ext cx="1981080" cy="1067040"/>
          </a:xfrm>
          <a:prstGeom prst="wedgeRoundRectCallout">
            <a:avLst>
              <a:gd name="adj1" fmla="val 46189"/>
              <a:gd name="adj2" fmla="val -1943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Rounded Rectangular Callout 5"/>
          <p:cNvSpPr/>
          <p:nvPr/>
        </p:nvSpPr>
        <p:spPr>
          <a:xfrm>
            <a:off x="5486400" y="5486400"/>
            <a:ext cx="2743200" cy="1143000"/>
          </a:xfrm>
          <a:prstGeom prst="wedgeRoundRectCallout">
            <a:avLst>
              <a:gd name="adj1" fmla="val -75597"/>
              <a:gd name="adj2" fmla="val -18867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Picture 6" descr="point01.jpg"/>
          <p:cNvPicPr/>
          <p:nvPr/>
        </p:nvPicPr>
        <p:blipFill>
          <a:blip r:embed="rId1"/>
          <a:stretch/>
        </p:blipFill>
        <p:spPr>
          <a:xfrm>
            <a:off x="3224160" y="2286000"/>
            <a:ext cx="2236680" cy="394956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7" descr="point01.jpg"/>
          <p:cNvPicPr/>
          <p:nvPr/>
        </p:nvPicPr>
        <p:blipFill>
          <a:blip r:embed="rId2"/>
          <a:stretch/>
        </p:blipFill>
        <p:spPr>
          <a:xfrm>
            <a:off x="3200400" y="2286000"/>
            <a:ext cx="2286000" cy="3962520"/>
          </a:xfrm>
          <a:prstGeom prst="rect">
            <a:avLst/>
          </a:prstGeom>
          <a:ln w="0">
            <a:noFill/>
          </a:ln>
        </p:spPr>
      </p:pic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Language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ch f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sian bo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ish m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ed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at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d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Rounded Rectangular Callout 4"/>
          <p:cNvSpPr/>
          <p:nvPr/>
        </p:nvSpPr>
        <p:spPr>
          <a:xfrm>
            <a:off x="990720" y="4724280"/>
            <a:ext cx="1981080" cy="1067040"/>
          </a:xfrm>
          <a:prstGeom prst="wedgeRoundRectCallout">
            <a:avLst>
              <a:gd name="adj1" fmla="val 121574"/>
              <a:gd name="adj2" fmla="val -20572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Rounded Rectangular Callout 5"/>
          <p:cNvSpPr/>
          <p:nvPr/>
        </p:nvSpPr>
        <p:spPr>
          <a:xfrm>
            <a:off x="5105520" y="4876920"/>
            <a:ext cx="2743200" cy="1143000"/>
          </a:xfrm>
          <a:prstGeom prst="wedgeRoundRectCallout">
            <a:avLst>
              <a:gd name="adj1" fmla="val -80041"/>
              <a:gd name="adj2" fmla="val -20867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8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Picture 6" descr="point01.jpg"/>
          <p:cNvPicPr/>
          <p:nvPr/>
        </p:nvPicPr>
        <p:blipFill>
          <a:blip r:embed="rId1"/>
          <a:stretch/>
        </p:blipFill>
        <p:spPr>
          <a:xfrm>
            <a:off x="3200400" y="2286000"/>
            <a:ext cx="2206800" cy="394956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7" descr="point01.jpg"/>
          <p:cNvPicPr/>
          <p:nvPr/>
        </p:nvPicPr>
        <p:blipFill>
          <a:blip r:embed="rId2"/>
          <a:stretch/>
        </p:blipFill>
        <p:spPr>
          <a:xfrm>
            <a:off x="3200400" y="2155680"/>
            <a:ext cx="2286000" cy="4092840"/>
          </a:xfrm>
          <a:prstGeom prst="rect">
            <a:avLst/>
          </a:prstGeom>
          <a:ln w="0">
            <a:noFill/>
          </a:ln>
        </p:spPr>
      </p:pic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Nationalitie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il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n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ient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ypt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mmer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noisse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ramid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il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Rounded Rectangular Callout 4"/>
          <p:cNvSpPr/>
          <p:nvPr/>
        </p:nvSpPr>
        <p:spPr>
          <a:xfrm>
            <a:off x="1371600" y="4800600"/>
            <a:ext cx="1981080" cy="1066680"/>
          </a:xfrm>
          <a:prstGeom prst="wedgeRoundRectCallout">
            <a:avLst>
              <a:gd name="adj1" fmla="val 69268"/>
              <a:gd name="adj2" fmla="val -2085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Rounded Rectangular Callout 5"/>
          <p:cNvSpPr/>
          <p:nvPr/>
        </p:nvSpPr>
        <p:spPr>
          <a:xfrm>
            <a:off x="4876920" y="4800600"/>
            <a:ext cx="2743200" cy="1143000"/>
          </a:xfrm>
          <a:prstGeom prst="wedgeRoundRectCallout">
            <a:avLst>
              <a:gd name="adj1" fmla="val -48930"/>
              <a:gd name="adj2" fmla="val -20600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3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Picture 6" descr="point01.jpg"/>
          <p:cNvPicPr/>
          <p:nvPr/>
        </p:nvPicPr>
        <p:blipFill>
          <a:blip r:embed="rId1"/>
          <a:stretch/>
        </p:blipFill>
        <p:spPr>
          <a:xfrm>
            <a:off x="3200400" y="3124080"/>
            <a:ext cx="2436840" cy="328320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7" descr="point01.jpg"/>
          <p:cNvPicPr/>
          <p:nvPr/>
        </p:nvPicPr>
        <p:blipFill>
          <a:blip r:embed="rId2"/>
          <a:stretch/>
        </p:blipFill>
        <p:spPr>
          <a:xfrm>
            <a:off x="3200400" y="3114720"/>
            <a:ext cx="2438280" cy="3286080"/>
          </a:xfrm>
          <a:prstGeom prst="rect">
            <a:avLst/>
          </a:prstGeom>
          <a:ln w="0">
            <a:noFill/>
          </a:ln>
        </p:spPr>
      </p:pic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oliday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ksg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rth of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ily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tum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eworks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Rounded Rectangular Callout 4"/>
          <p:cNvSpPr/>
          <p:nvPr/>
        </p:nvSpPr>
        <p:spPr>
          <a:xfrm>
            <a:off x="609480" y="4191120"/>
            <a:ext cx="1981440" cy="1066680"/>
          </a:xfrm>
          <a:prstGeom prst="wedgeRoundRectCallout">
            <a:avLst>
              <a:gd name="adj1" fmla="val 130037"/>
              <a:gd name="adj2" fmla="val -11144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Rounded Rectangular Callout 5"/>
          <p:cNvSpPr/>
          <p:nvPr/>
        </p:nvSpPr>
        <p:spPr>
          <a:xfrm>
            <a:off x="6019920" y="4343400"/>
            <a:ext cx="2743200" cy="1143000"/>
          </a:xfrm>
          <a:prstGeom prst="wedgeRoundRectCallout">
            <a:avLst>
              <a:gd name="adj1" fmla="val -100041"/>
              <a:gd name="adj2" fmla="val -12200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8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Picture 6" descr="point01.jpg"/>
          <p:cNvPicPr/>
          <p:nvPr/>
        </p:nvPicPr>
        <p:blipFill>
          <a:blip r:embed="rId1"/>
          <a:stretch/>
        </p:blipFill>
        <p:spPr>
          <a:xfrm>
            <a:off x="3882960" y="3733920"/>
            <a:ext cx="1982880" cy="312408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7" descr="point01.jpg"/>
          <p:cNvPicPr/>
          <p:nvPr/>
        </p:nvPicPr>
        <p:blipFill>
          <a:blip r:embed="rId2"/>
          <a:stretch/>
        </p:blipFill>
        <p:spPr>
          <a:xfrm>
            <a:off x="3886200" y="3657600"/>
            <a:ext cx="2031840" cy="3200400"/>
          </a:xfrm>
          <a:prstGeom prst="rect">
            <a:avLst/>
          </a:prstGeom>
          <a:ln w="0">
            <a:noFill/>
          </a:ln>
        </p:spPr>
      </p:pic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Department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456840" y="2438280"/>
            <a:ext cx="3352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ision of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or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h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lando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ar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ernal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u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’s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c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efigh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x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l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Rounded Rectangular Callout 4"/>
          <p:cNvSpPr/>
          <p:nvPr/>
        </p:nvSpPr>
        <p:spPr>
          <a:xfrm>
            <a:off x="1752480" y="5562720"/>
            <a:ext cx="1981440" cy="1066680"/>
          </a:xfrm>
          <a:prstGeom prst="wedgeRoundRectCallout">
            <a:avLst>
              <a:gd name="adj1" fmla="val 103115"/>
              <a:gd name="adj2" fmla="val -14858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Rounded Rectangular Callout 5"/>
          <p:cNvSpPr/>
          <p:nvPr/>
        </p:nvSpPr>
        <p:spPr>
          <a:xfrm>
            <a:off x="6172200" y="5410080"/>
            <a:ext cx="2743200" cy="1143000"/>
          </a:xfrm>
          <a:prstGeom prst="wedgeRoundRectCallout">
            <a:avLst>
              <a:gd name="adj1" fmla="val -96708"/>
              <a:gd name="adj2" fmla="val -13133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53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2" name="Picture 5" descr="question.jpg"/>
          <p:cNvPicPr/>
          <p:nvPr/>
        </p:nvPicPr>
        <p:blipFill>
          <a:blip r:embed="rId1"/>
          <a:stretch/>
        </p:blipFill>
        <p:spPr>
          <a:xfrm>
            <a:off x="1905120" y="2133720"/>
            <a:ext cx="5029200" cy="4578120"/>
          </a:xfrm>
          <a:prstGeom prst="rect">
            <a:avLst/>
          </a:prstGeom>
          <a:ln w="0">
            <a:noFill/>
          </a:ln>
        </p:spPr>
      </p:pic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apitalization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4" name="Rounded Rectangular Callout 7"/>
          <p:cNvSpPr/>
          <p:nvPr/>
        </p:nvSpPr>
        <p:spPr>
          <a:xfrm>
            <a:off x="304920" y="1828800"/>
            <a:ext cx="2133360" cy="1752480"/>
          </a:xfrm>
          <a:prstGeom prst="wedgeRoundRectCallout">
            <a:avLst>
              <a:gd name="adj1" fmla="val 141203"/>
              <a:gd name="adj2" fmla="val 67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need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capi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t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Rounded Rectangular Callout 8"/>
          <p:cNvSpPr/>
          <p:nvPr/>
        </p:nvSpPr>
        <p:spPr>
          <a:xfrm>
            <a:off x="6477120" y="1600200"/>
            <a:ext cx="2514600" cy="1981080"/>
          </a:xfrm>
          <a:prstGeom prst="wedgeRoundRectCallout">
            <a:avLst>
              <a:gd name="adj1" fmla="val -103680"/>
              <a:gd name="adj2" fmla="val 1370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should that letter remai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lower case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6" name="Rectangle 6" descr=""/>
          <p:cNvPicPr/>
          <p:nvPr/>
        </p:nvPicPr>
        <p:blipFill>
          <a:blip r:embed="rId2"/>
          <a:stretch/>
        </p:blipFill>
        <p:spPr>
          <a:xfrm>
            <a:off x="1517760" y="3413160"/>
            <a:ext cx="1304640" cy="1450800"/>
          </a:xfrm>
          <a:prstGeom prst="rect">
            <a:avLst/>
          </a:prstGeom>
          <a:ln w="0">
            <a:noFill/>
          </a:ln>
        </p:spPr>
      </p:pic>
      <p:pic>
        <p:nvPicPr>
          <p:cNvPr id="1387" name="Rectangle 9" descr=""/>
          <p:cNvPicPr/>
          <p:nvPr/>
        </p:nvPicPr>
        <p:blipFill>
          <a:blip r:embed="rId3"/>
          <a:stretch/>
        </p:blipFill>
        <p:spPr>
          <a:xfrm>
            <a:off x="6229440" y="3413160"/>
            <a:ext cx="1218960" cy="1450800"/>
          </a:xfrm>
          <a:prstGeom prst="rect">
            <a:avLst/>
          </a:prstGeom>
          <a:ln w="0">
            <a:noFill/>
          </a:ln>
        </p:spPr>
      </p:pic>
      <p:sp>
        <p:nvSpPr>
          <p:cNvPr id="1388" name="Rectangle 8"/>
          <p:cNvSpPr/>
          <p:nvPr/>
        </p:nvSpPr>
        <p:spPr>
          <a:xfrm>
            <a:off x="36360" y="-6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01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201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102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Picture 6" descr="point01.jpg"/>
          <p:cNvPicPr/>
          <p:nvPr/>
        </p:nvPicPr>
        <p:blipFill>
          <a:blip r:embed="rId1"/>
          <a:stretch/>
        </p:blipFill>
        <p:spPr>
          <a:xfrm>
            <a:off x="2971800" y="3048120"/>
            <a:ext cx="2436840" cy="3390840"/>
          </a:xfrm>
          <a:prstGeom prst="rect">
            <a:avLst/>
          </a:prstGeom>
          <a:ln w="0">
            <a:noFill/>
          </a:ln>
        </p:spPr>
      </p:pic>
      <p:pic>
        <p:nvPicPr>
          <p:cNvPr id="1490" name="Picture 7" descr="point01.jpg"/>
          <p:cNvPicPr/>
          <p:nvPr/>
        </p:nvPicPr>
        <p:blipFill>
          <a:blip r:embed="rId2"/>
          <a:stretch/>
        </p:blipFill>
        <p:spPr>
          <a:xfrm>
            <a:off x="2971800" y="3048120"/>
            <a:ext cx="2438280" cy="3392280"/>
          </a:xfrm>
          <a:prstGeom prst="rect">
            <a:avLst/>
          </a:prstGeom>
          <a:ln w="0">
            <a:noFill/>
          </a:ln>
        </p:spPr>
      </p:pic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Historical Era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2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ac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d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gd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t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osaurs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liferation of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ram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or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omic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Rounded Rectangular Callout 4"/>
          <p:cNvSpPr/>
          <p:nvPr/>
        </p:nvSpPr>
        <p:spPr>
          <a:xfrm>
            <a:off x="2133720" y="5410080"/>
            <a:ext cx="1981080" cy="1067040"/>
          </a:xfrm>
          <a:prstGeom prst="wedgeRoundRectCallout">
            <a:avLst>
              <a:gd name="adj1" fmla="val 93115"/>
              <a:gd name="adj2" fmla="val -22287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5" name="Rounded Rectangular Callout 5"/>
          <p:cNvSpPr/>
          <p:nvPr/>
        </p:nvSpPr>
        <p:spPr>
          <a:xfrm>
            <a:off x="4495680" y="5334120"/>
            <a:ext cx="2743200" cy="1143000"/>
          </a:xfrm>
          <a:prstGeom prst="wedgeRoundRectCallout">
            <a:avLst>
              <a:gd name="adj1" fmla="val -88375"/>
              <a:gd name="adj2" fmla="val -20200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8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Picture 6" descr="point01.jpg"/>
          <p:cNvPicPr/>
          <p:nvPr/>
        </p:nvPicPr>
        <p:blipFill>
          <a:blip r:embed="rId1"/>
          <a:stretch/>
        </p:blipFill>
        <p:spPr>
          <a:xfrm>
            <a:off x="3124080" y="2286000"/>
            <a:ext cx="2436840" cy="394956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7" descr="point01.jpg"/>
          <p:cNvPicPr/>
          <p:nvPr/>
        </p:nvPicPr>
        <p:blipFill>
          <a:blip r:embed="rId2"/>
          <a:stretch/>
        </p:blipFill>
        <p:spPr>
          <a:xfrm>
            <a:off x="3124080" y="2286000"/>
            <a:ext cx="2438640" cy="3921120"/>
          </a:xfrm>
          <a:prstGeom prst="rect">
            <a:avLst/>
          </a:prstGeom>
          <a:ln w="0">
            <a:noFill/>
          </a:ln>
        </p:spPr>
      </p:pic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Regions of the Country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"/>
          <p:cNvSpPr txBox="1"/>
          <p:nvPr/>
        </p:nvSpPr>
        <p:spPr>
          <a:xfrm>
            <a:off x="5562360" y="2438280"/>
            <a:ext cx="3352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h ex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wing from the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 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h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 of the 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Rounded Rectangular Callout 4"/>
          <p:cNvSpPr/>
          <p:nvPr/>
        </p:nvSpPr>
        <p:spPr>
          <a:xfrm>
            <a:off x="2133720" y="5410080"/>
            <a:ext cx="1981080" cy="1067040"/>
          </a:xfrm>
          <a:prstGeom prst="wedgeRoundRectCallout">
            <a:avLst>
              <a:gd name="adj1" fmla="val 46189"/>
              <a:gd name="adj2" fmla="val -1943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Rounded Rectangular Callout 5"/>
          <p:cNvSpPr/>
          <p:nvPr/>
        </p:nvSpPr>
        <p:spPr>
          <a:xfrm>
            <a:off x="5486400" y="5486400"/>
            <a:ext cx="2743200" cy="1143000"/>
          </a:xfrm>
          <a:prstGeom prst="wedgeRoundRectCallout">
            <a:avLst>
              <a:gd name="adj1" fmla="val -75597"/>
              <a:gd name="adj2" fmla="val -18867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Picture 6" descr="point01.jpg"/>
          <p:cNvPicPr/>
          <p:nvPr/>
        </p:nvPicPr>
        <p:blipFill>
          <a:blip r:embed="rId1"/>
          <a:stretch/>
        </p:blipFill>
        <p:spPr>
          <a:xfrm>
            <a:off x="3124080" y="2908440"/>
            <a:ext cx="2237040" cy="394956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7" descr="point01.jpg"/>
          <p:cNvPicPr/>
          <p:nvPr/>
        </p:nvPicPr>
        <p:blipFill>
          <a:blip r:embed="rId2"/>
          <a:stretch/>
        </p:blipFill>
        <p:spPr>
          <a:xfrm>
            <a:off x="3124080" y="2895480"/>
            <a:ext cx="2286000" cy="3962520"/>
          </a:xfrm>
          <a:prstGeom prst="rect">
            <a:avLst/>
          </a:prstGeom>
          <a:ln w="0">
            <a:noFill/>
          </a:ln>
        </p:spPr>
      </p:pic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ourse Name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6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amentals of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ermediate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gebr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emporary </a:t>
            </a: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geb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Rounded Rectangular Callout 4"/>
          <p:cNvSpPr/>
          <p:nvPr/>
        </p:nvSpPr>
        <p:spPr>
          <a:xfrm>
            <a:off x="1066680" y="5562720"/>
            <a:ext cx="1981440" cy="1066680"/>
          </a:xfrm>
          <a:prstGeom prst="wedgeRoundRectCallout">
            <a:avLst>
              <a:gd name="adj1" fmla="val 111574"/>
              <a:gd name="adj2" fmla="val -2285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Rounded Rectangular Callout 5"/>
          <p:cNvSpPr/>
          <p:nvPr/>
        </p:nvSpPr>
        <p:spPr>
          <a:xfrm>
            <a:off x="5486400" y="5410080"/>
            <a:ext cx="2743200" cy="1143000"/>
          </a:xfrm>
          <a:prstGeom prst="wedgeRoundRectCallout">
            <a:avLst>
              <a:gd name="adj1" fmla="val -96152"/>
              <a:gd name="adj2" fmla="val -20333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8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Picture 6" descr="point01.jpg"/>
          <p:cNvPicPr/>
          <p:nvPr/>
        </p:nvPicPr>
        <p:blipFill>
          <a:blip r:embed="rId1"/>
          <a:stretch/>
        </p:blipFill>
        <p:spPr>
          <a:xfrm>
            <a:off x="3200400" y="2286000"/>
            <a:ext cx="2206800" cy="394956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7" descr="point01.jpg"/>
          <p:cNvPicPr/>
          <p:nvPr/>
        </p:nvPicPr>
        <p:blipFill>
          <a:blip r:embed="rId2"/>
          <a:stretch/>
        </p:blipFill>
        <p:spPr>
          <a:xfrm>
            <a:off x="3200400" y="2155680"/>
            <a:ext cx="2286000" cy="4092840"/>
          </a:xfrm>
          <a:prstGeom prst="rect">
            <a:avLst/>
          </a:prstGeom>
          <a:ln w="0">
            <a:noFill/>
          </a:ln>
        </p:spPr>
      </p:pic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Titles of Work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456840" y="2438280"/>
            <a:ext cx="2971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M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by-</a:t>
            </a: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A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ie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c000"/>
                </a:solidFill>
                <a:uFillTx/>
                <a:latin typeface="Arial Black"/>
              </a:rPr>
              <a:t>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ri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5562360" y="243828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hick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st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ie ever m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dance 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b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Rounded Rectangular Callout 4"/>
          <p:cNvSpPr/>
          <p:nvPr/>
        </p:nvSpPr>
        <p:spPr>
          <a:xfrm>
            <a:off x="1371600" y="4800600"/>
            <a:ext cx="1981080" cy="1066680"/>
          </a:xfrm>
          <a:prstGeom prst="wedgeRoundRectCallout">
            <a:avLst>
              <a:gd name="adj1" fmla="val 69268"/>
              <a:gd name="adj2" fmla="val -2085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Rounded Rectangular Callout 5"/>
          <p:cNvSpPr/>
          <p:nvPr/>
        </p:nvSpPr>
        <p:spPr>
          <a:xfrm>
            <a:off x="4800600" y="4952880"/>
            <a:ext cx="2743200" cy="1143000"/>
          </a:xfrm>
          <a:prstGeom prst="wedgeRoundRectCallout">
            <a:avLst>
              <a:gd name="adj1" fmla="val -47263"/>
              <a:gd name="adj2" fmla="val -22067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us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ower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thes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3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5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8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9" name="Picture 5" descr="copyright.jpg"/>
          <p:cNvPicPr/>
          <p:nvPr/>
        </p:nvPicPr>
        <p:blipFill>
          <a:blip r:embed="rId1"/>
          <a:stretch/>
        </p:blipFill>
        <p:spPr>
          <a:xfrm>
            <a:off x="5867280" y="3429000"/>
            <a:ext cx="1752840" cy="3205080"/>
          </a:xfrm>
          <a:prstGeom prst="rect">
            <a:avLst/>
          </a:prstGeom>
          <a:ln w="0">
            <a:noFill/>
          </a:ln>
        </p:spPr>
      </p:pic>
      <p:sp>
        <p:nvSpPr>
          <p:cNvPr id="1520" name="Rounded Rectangular Callout 6"/>
          <p:cNvSpPr/>
          <p:nvPr/>
        </p:nvSpPr>
        <p:spPr>
          <a:xfrm>
            <a:off x="2514600" y="4495680"/>
            <a:ext cx="2133720" cy="1752840"/>
          </a:xfrm>
          <a:prstGeom prst="wedgeRoundRectCallout">
            <a:avLst>
              <a:gd name="adj1" fmla="val 119638"/>
              <a:gd name="adj2" fmla="val -3379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8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10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103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TextBox 9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yron likes spicy foods, so he chose the Asi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 wrap. Martha prefers bland dishes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dered a large basket of french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3" name="TextBox 6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yron likes spicy foods, so he chose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si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 wrap. Martha prefers bland dishes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dered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ar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sket of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ren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             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TextBox 7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yron likes spicy foods, so he chose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si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 wrap. Martha prefers bland dishes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dered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ar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sket of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Fren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7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6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nelle will take Fundamentals of Biology n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mester; she hates Science classes but needs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dits to transfer to a univers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ndamentals of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TextBox 5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nelle will tak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undamentals of Bi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mester; she hate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c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lasses but needs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dits to transfer to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univers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ndamentals of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TextBox 6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nelle will tak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undamentals of Bi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x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mester; she hate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c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lasses but needs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redits to transfer to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univers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undamentals of bi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c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6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0" name="TextBox 3"/>
          <p:cNvSpPr/>
          <p:nvPr/>
        </p:nvSpPr>
        <p:spPr>
          <a:xfrm>
            <a:off x="380880" y="1676520"/>
            <a:ext cx="838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 family prefers to cook a ham on holidays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e Bart is a vegetarian, so my mother prepa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furkey” for h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li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get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TextBox 5"/>
          <p:cNvSpPr/>
          <p:nvPr/>
        </p:nvSpPr>
        <p:spPr>
          <a:xfrm>
            <a:off x="380880" y="1676520"/>
            <a:ext cx="8382240" cy="4800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 family prefers to cook a ham 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lida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un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rt is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vegetari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so my mother prepa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furkey” for h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li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get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TextBox 6"/>
          <p:cNvSpPr/>
          <p:nvPr/>
        </p:nvSpPr>
        <p:spPr>
          <a:xfrm>
            <a:off x="380880" y="1676520"/>
            <a:ext cx="8382240" cy="4800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 family prefers to cook a ham 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lida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Unc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rt is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vegetari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so my mother prepa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furkey” for hi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li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Un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getar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5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9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4" name="TextBox 3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i is vietnamese, but she grew up in Puerto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o, where she attended cooking school; now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is the head chef at the Cuban restaurant 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ange Aven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ietnam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TextBox 5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i i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vietname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but she grew up in Puer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o, where she attend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oking scho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; no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is the head chef at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ub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estaurant 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ange Aven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ietnam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TextBox 6"/>
          <p:cNvSpPr/>
          <p:nvPr/>
        </p:nvSpPr>
        <p:spPr>
          <a:xfrm>
            <a:off x="457200" y="1523880"/>
            <a:ext cx="822960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i i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ietname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but she grew up in Puer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o, where she attende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oking schoo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; now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is the head chef at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ub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estaurant 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ange Aven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ietname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Sch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u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04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8" name="TextBox 3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urn left! We need to go west on Highway 50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wise, we will be heading toward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tona be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way 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tona B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TextBox 5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urn left! We need to g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ighway 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wise, we will be heading toward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aytona b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way 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tona B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TextBox 6"/>
          <p:cNvSpPr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urn left! We need to g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e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ighway 5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wise, we will be heading toward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aytona Bea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ghway 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aytona Be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3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9" name="Picture 3" descr="point01b.JPG"/>
          <p:cNvPicPr/>
          <p:nvPr/>
        </p:nvPicPr>
        <p:blipFill>
          <a:blip r:embed="rId1"/>
          <a:stretch/>
        </p:blipFill>
        <p:spPr>
          <a:xfrm>
            <a:off x="380880" y="304920"/>
            <a:ext cx="3505320" cy="5680080"/>
          </a:xfrm>
          <a:prstGeom prst="rect">
            <a:avLst/>
          </a:prstGeom>
          <a:ln w="0">
            <a:noFill/>
          </a:ln>
        </p:spPr>
      </p:pic>
      <p:sp>
        <p:nvSpPr>
          <p:cNvPr id="1390" name="Rounded Rectangular Callout 2"/>
          <p:cNvSpPr/>
          <p:nvPr/>
        </p:nvSpPr>
        <p:spPr>
          <a:xfrm>
            <a:off x="5486400" y="2666880"/>
            <a:ext cx="3352680" cy="3505320"/>
          </a:xfrm>
          <a:prstGeom prst="wedgeRoundRectCallout">
            <a:avLst>
              <a:gd name="adj1" fmla="val -110384"/>
              <a:gd name="adj2" fmla="val -5318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capitalizing th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first let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h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first wor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 sentence, the pronou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nd</a:t>
            </a:r>
            <a:r>
              <a:rPr b="1" i="1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roper nou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2" name="TextBox 3"/>
          <p:cNvSpPr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atelyn used her last dollar to buy m&amp;m cand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would have enjoyed a Pepsi to wash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wn but the cafeteria prices were too expens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&amp;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p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fe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TextBox 5"/>
          <p:cNvSpPr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atelyn used her last dollar to bu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&amp;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d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would have enjoyed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eps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wash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wn but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fet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ices were too expens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&amp;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p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fe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TextBox 6"/>
          <p:cNvSpPr/>
          <p:nvPr/>
        </p:nvSpPr>
        <p:spPr>
          <a:xfrm>
            <a:off x="457200" y="1676520"/>
            <a:ext cx="822960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atelyn used her last dollar to bu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M&amp;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andi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would have enjoyed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eps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wash th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wn but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fet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rices were too expens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M&amp;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ps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fe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2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6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6" name="TextBox 3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an is taking a religion class this semester;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kes the professor and the readings, but he m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joys the intoxicating perfume that Isabella, 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blemate, w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li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TextBox 6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an is taking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lig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lass this semester;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kes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fess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 the readings, but he m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joys the intoxicating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erfu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Isabella, 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blemate, w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li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TextBox 9"/>
          <p:cNvSpPr/>
          <p:nvPr/>
        </p:nvSpPr>
        <p:spPr>
          <a:xfrm>
            <a:off x="533520" y="1447920"/>
            <a:ext cx="807696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an is taking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lig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lass this semester;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kes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fess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 the readings, but he mo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joys the intoxicating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erfum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Isabella, 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blemate, we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li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rf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5" dur="indefinite" restart="never" nodeType="tmRoot">
          <p:childTnLst>
            <p:seq>
              <p:cTn id="1156" dur="indefinite" nodeType="mainSeq">
                <p:childTnLst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1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5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0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rick visited the police station to see if some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found Squeeze, his 9-foot albino python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r Rodriguez said that no reptiles had b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ently cau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lice 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yth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TextBox 7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rick visited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olice s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see if some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found Squeeze, his 9-foot albin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yth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ffic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odriguez said that no reptiles had b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ently cau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lice 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yth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fi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trick visited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olice st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see if someo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found Squeeze, his 9-foot albin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yth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Offic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Rodriguez said that no reptiles had b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ently cau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olice S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yth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Offic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0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4" name="TextBox 3"/>
          <p:cNvSpPr/>
          <p:nvPr/>
        </p:nvSpPr>
        <p:spPr>
          <a:xfrm>
            <a:off x="533520" y="1600200"/>
            <a:ext cx="80769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ffrey thought he would hate humanities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ce Professor Kimble reached the Itali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naissance, the beautiful marble nudes g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ffrey’s at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naiss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TextBox 5"/>
          <p:cNvSpPr/>
          <p:nvPr/>
        </p:nvSpPr>
        <p:spPr>
          <a:xfrm>
            <a:off x="533520" y="1600200"/>
            <a:ext cx="8076960" cy="51814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ffrey thought he would hat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umani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c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fess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Kimble reached the Itali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naiss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the beautiful marble nudes g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ffrey’s at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naiss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TextBox 6"/>
          <p:cNvSpPr/>
          <p:nvPr/>
        </p:nvSpPr>
        <p:spPr>
          <a:xfrm>
            <a:off x="533520" y="1600200"/>
            <a:ext cx="8076960" cy="51814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ffrey thought he would hat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umanit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c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fess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Kimble reached the Itali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Renaissa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the beautiful marble nudes g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effrey’s att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f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enaiss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9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8" name="TextBox 3"/>
          <p:cNvSpPr/>
          <p:nvPr/>
        </p:nvSpPr>
        <p:spPr>
          <a:xfrm>
            <a:off x="533520" y="1600200"/>
            <a:ext cx="80769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iki is a practicing hindu, so she was offend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Sean pulled into a McDonald’s drive-th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order a Big Ma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n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cdonald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g 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TextBox 5"/>
          <p:cNvSpPr/>
          <p:nvPr/>
        </p:nvSpPr>
        <p:spPr>
          <a:xfrm>
            <a:off x="533520" y="1600200"/>
            <a:ext cx="807696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iki is a practicing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ind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so she was offend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Sean pulled into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cDonald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rive-thr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order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ig Ma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n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cdonald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g 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TextBox 6"/>
          <p:cNvSpPr/>
          <p:nvPr/>
        </p:nvSpPr>
        <p:spPr>
          <a:xfrm>
            <a:off x="533520" y="1600200"/>
            <a:ext cx="807696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iki is a practicing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nd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 so she was offend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Sean pulled into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cDonald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rive-thru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order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ig Ma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n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cdonald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g 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8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2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TextBox 3"/>
          <p:cNvSpPr/>
          <p:nvPr/>
        </p:nvSpPr>
        <p:spPr>
          <a:xfrm>
            <a:off x="2286000" y="295596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TextBox 11"/>
          <p:cNvSpPr/>
          <p:nvPr/>
        </p:nvSpPr>
        <p:spPr>
          <a:xfrm>
            <a:off x="2286000" y="2971800"/>
            <a:ext cx="4572000" cy="10083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000"/>
                </a:solidFill>
                <a:uFillTx/>
                <a:latin typeface="Arial Black"/>
              </a:rPr>
              <a:t>T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3" name="Picture 9" descr="point02.jpg"/>
          <p:cNvPicPr/>
          <p:nvPr/>
        </p:nvPicPr>
        <p:blipFill>
          <a:blip r:embed="rId1"/>
          <a:stretch/>
        </p:blipFill>
        <p:spPr>
          <a:xfrm>
            <a:off x="2819520" y="3889440"/>
            <a:ext cx="2133360" cy="2968560"/>
          </a:xfrm>
          <a:prstGeom prst="rect">
            <a:avLst/>
          </a:prstGeom>
          <a:ln w="0">
            <a:noFill/>
          </a:ln>
        </p:spPr>
      </p:pic>
      <p:sp>
        <p:nvSpPr>
          <p:cNvPr id="1564" name="TextBox 12"/>
          <p:cNvSpPr/>
          <p:nvPr/>
        </p:nvSpPr>
        <p:spPr>
          <a:xfrm>
            <a:off x="2286000" y="2971800"/>
            <a:ext cx="4572000" cy="10083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c000"/>
                </a:solidFill>
                <a:uFillTx/>
                <a:latin typeface="Arial Black"/>
              </a:rPr>
              <a:t>T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he </a:t>
            </a:r>
            <a:r>
              <a:rPr b="0" lang="en-US" sz="6000" spc="-1" strike="noStrike" u="sng">
                <a:solidFill>
                  <a:srgbClr val="ffc000"/>
                </a:solidFill>
                <a:uFillTx/>
                <a:latin typeface="Arial Black"/>
              </a:rPr>
              <a:t>E</a:t>
            </a: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5" name="Picture 10" descr="point02b.jpg"/>
          <p:cNvPicPr/>
          <p:nvPr/>
        </p:nvPicPr>
        <p:blipFill>
          <a:blip r:embed="rId2"/>
          <a:stretch/>
        </p:blipFill>
        <p:spPr>
          <a:xfrm>
            <a:off x="2743200" y="3886200"/>
            <a:ext cx="2209680" cy="2971800"/>
          </a:xfrm>
          <a:prstGeom prst="rect">
            <a:avLst/>
          </a:prstGeom>
          <a:ln w="0">
            <a:noFill/>
          </a:ln>
        </p:spPr>
      </p:pic>
      <p:sp>
        <p:nvSpPr>
          <p:cNvPr id="1566" name="Rounded Rectangular Callout 13"/>
          <p:cNvSpPr/>
          <p:nvPr/>
        </p:nvSpPr>
        <p:spPr>
          <a:xfrm>
            <a:off x="4191120" y="5257800"/>
            <a:ext cx="1676160" cy="838080"/>
          </a:xfrm>
          <a:prstGeom prst="wedgeRoundRectCallout">
            <a:avLst>
              <a:gd name="adj1" fmla="val -113087"/>
              <a:gd name="adj2" fmla="val -15561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Bet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0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24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2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25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125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143000" y="1523880"/>
            <a:ext cx="68580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capitalization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3" name="TextBox 3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da wouldn’t offer her little brother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ristmas cookie because he ate all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lloween candy last octob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cto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TextBox 5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da wouldn’t offer her littl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ro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ristma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oki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ecause he ate all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lloween candy las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octo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cto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TextBox 6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da wouldn’t offer her littl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roth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ristma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oki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ecause he ate all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lloween candy las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Octob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Octo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6" name="Picture 7" descr="copyright.jpg"/>
          <p:cNvPicPr/>
          <p:nvPr/>
        </p:nvPicPr>
        <p:blipFill>
          <a:blip r:embed="rId1"/>
          <a:stretch/>
        </p:blipFill>
        <p:spPr>
          <a:xfrm>
            <a:off x="7319880" y="4038480"/>
            <a:ext cx="1290600" cy="2360880"/>
          </a:xfrm>
          <a:prstGeom prst="rect">
            <a:avLst/>
          </a:prstGeom>
          <a:ln w="0">
            <a:noFill/>
          </a:ln>
        </p:spPr>
      </p:pic>
      <p:sp>
        <p:nvSpPr>
          <p:cNvPr id="1397" name="Rounded Rectangular Callout 8"/>
          <p:cNvSpPr/>
          <p:nvPr/>
        </p:nvSpPr>
        <p:spPr>
          <a:xfrm>
            <a:off x="3886200" y="4419720"/>
            <a:ext cx="2209680" cy="1676160"/>
          </a:xfrm>
          <a:prstGeom prst="wedgeRoundRectCallout">
            <a:avLst>
              <a:gd name="adj1" fmla="val 115120"/>
              <a:gd name="adj2" fmla="val -1775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brot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ook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octo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robl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Rounded Rectangular Callout 9"/>
          <p:cNvSpPr/>
          <p:nvPr/>
        </p:nvSpPr>
        <p:spPr>
          <a:xfrm>
            <a:off x="3886200" y="4419720"/>
            <a:ext cx="2209680" cy="1676160"/>
          </a:xfrm>
          <a:prstGeom prst="wedgeRoundRectCallout">
            <a:avLst>
              <a:gd name="adj1" fmla="val 115120"/>
              <a:gd name="adj2" fmla="val -1775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Octo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eds a capital letter, which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Picture 4" descr="point01.jpg"/>
          <p:cNvPicPr/>
          <p:nvPr/>
        </p:nvPicPr>
        <p:blipFill>
          <a:blip r:embed="rId1"/>
          <a:stretch/>
        </p:blipFill>
        <p:spPr>
          <a:xfrm>
            <a:off x="6894360" y="4038480"/>
            <a:ext cx="1598760" cy="2590920"/>
          </a:xfrm>
          <a:prstGeom prst="rect">
            <a:avLst/>
          </a:prstGeom>
          <a:ln w="0">
            <a:noFill/>
          </a:ln>
        </p:spPr>
      </p:pic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9810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pitalize the first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lette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f the first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wor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f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ntence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otten pear sat in a puddle of goo on the kitchen cou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Rounded Rectangular Callout 5"/>
          <p:cNvSpPr/>
          <p:nvPr/>
        </p:nvSpPr>
        <p:spPr>
          <a:xfrm>
            <a:off x="914400" y="4343400"/>
            <a:ext cx="3352680" cy="2286000"/>
          </a:xfrm>
          <a:prstGeom prst="wedgeRoundRectCallout">
            <a:avLst>
              <a:gd name="adj1" fmla="val 128148"/>
              <a:gd name="adj2" fmla="val -199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de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form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riting i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ame a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ex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frien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Subtitle 2"/>
          <p:cNvSpPr/>
          <p:nvPr/>
        </p:nvSpPr>
        <p:spPr>
          <a:xfrm>
            <a:off x="1371600" y="2666880"/>
            <a:ext cx="6400800" cy="1219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rotten pear sat in a puddle of goo on the kitchen coun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pitalize the pronoun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4000" spc="-1" strike="noStrike">
                <a:solidFill>
                  <a:srgbClr val="ffc000"/>
                </a:solidFill>
                <a:latin typeface="Garamond"/>
              </a:rPr>
              <a:t>I</a:t>
            </a:r>
            <a:r>
              <a:rPr b="1" i="1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at liar Darlene claims that she spent the night studying, i will say that i saw her kissing Thomas at the mov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Subtitle 2"/>
          <p:cNvSpPr/>
          <p:nvPr/>
        </p:nvSpPr>
        <p:spPr>
          <a:xfrm>
            <a:off x="1143000" y="1981080"/>
            <a:ext cx="6858000" cy="1752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that liar Darlene claims that she spent the night studying, </a:t>
            </a:r>
            <a:r>
              <a:rPr b="1" lang="en-US" sz="2800" spc="-1" strike="noStrike">
                <a:solidFill>
                  <a:srgbClr val="ffc000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say that </a:t>
            </a:r>
            <a:r>
              <a:rPr b="1" lang="en-US" sz="2800" spc="-1" strike="noStrike">
                <a:solidFill>
                  <a:srgbClr val="ffc000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aw her kissing Thomas at the mov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7" name="Picture 4" descr="point03.jpg"/>
          <p:cNvPicPr/>
          <p:nvPr/>
        </p:nvPicPr>
        <p:blipFill>
          <a:blip r:embed="rId1"/>
          <a:stretch/>
        </p:blipFill>
        <p:spPr>
          <a:xfrm>
            <a:off x="1182600" y="3581280"/>
            <a:ext cx="1268640" cy="3276720"/>
          </a:xfrm>
          <a:prstGeom prst="rect">
            <a:avLst/>
          </a:prstGeom>
          <a:ln w="0">
            <a:noFill/>
          </a:ln>
        </p:spPr>
      </p:pic>
      <p:sp>
        <p:nvSpPr>
          <p:cNvPr id="1408" name="Rounded Rectangular Callout 3"/>
          <p:cNvSpPr/>
          <p:nvPr/>
        </p:nvSpPr>
        <p:spPr>
          <a:xfrm>
            <a:off x="5334120" y="4267080"/>
            <a:ext cx="3276360" cy="2057400"/>
          </a:xfrm>
          <a:prstGeom prst="wedgeRoundRectCallout">
            <a:avLst>
              <a:gd name="adj1" fmla="val -144578"/>
              <a:gd name="adj2" fmla="val -4741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n’t b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lazy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italize those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  <a:ea typeface="Arial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Garamond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’s. You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deser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apital lett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762120" y="453600"/>
            <a:ext cx="7619760" cy="14511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pitaliz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proper nouns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70106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uesday, september 18, elizabeth cooked her first pot of squid eyeball ste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Subtitle 2"/>
          <p:cNvSpPr/>
          <p:nvPr/>
        </p:nvSpPr>
        <p:spPr>
          <a:xfrm>
            <a:off x="1066680" y="2209680"/>
            <a:ext cx="7010640" cy="15242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esday,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ptember 18,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zabeth cooked her first pot of squid eyeball ste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2" name="Picture 4" descr="point02.jpg"/>
          <p:cNvPicPr/>
          <p:nvPr/>
        </p:nvPicPr>
        <p:blipFill>
          <a:blip r:embed="rId1"/>
          <a:stretch/>
        </p:blipFill>
        <p:spPr>
          <a:xfrm>
            <a:off x="6324480" y="3387600"/>
            <a:ext cx="2438640" cy="3394080"/>
          </a:xfrm>
          <a:prstGeom prst="rect">
            <a:avLst/>
          </a:prstGeom>
          <a:ln w="0">
            <a:noFill/>
          </a:ln>
        </p:spPr>
      </p:pic>
      <p:sp>
        <p:nvSpPr>
          <p:cNvPr id="1413" name="Rounded Rectangular Callout 3"/>
          <p:cNvSpPr/>
          <p:nvPr/>
        </p:nvSpPr>
        <p:spPr>
          <a:xfrm>
            <a:off x="1066680" y="4114800"/>
            <a:ext cx="3733920" cy="2362320"/>
          </a:xfrm>
          <a:prstGeom prst="wedgeRoundRectCallout">
            <a:avLst>
              <a:gd name="adj1" fmla="val 141231"/>
              <a:gd name="adj2" fmla="val -5732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er nouns include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da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we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mont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ea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na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4" descr="point02.jpg"/>
          <p:cNvPicPr/>
          <p:nvPr/>
        </p:nvPicPr>
        <p:blipFill>
          <a:blip r:embed="rId1"/>
          <a:stretch/>
        </p:blipFill>
        <p:spPr>
          <a:xfrm>
            <a:off x="3132000" y="3429000"/>
            <a:ext cx="2354400" cy="327672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Other Proper Nouns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457200" y="1722240"/>
            <a:ext cx="2743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befor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ic Pl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gu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"/>
          <p:cNvSpPr txBox="1"/>
          <p:nvPr/>
        </p:nvSpPr>
        <p:spPr>
          <a:xfrm>
            <a:off x="5943240" y="1722600"/>
            <a:ext cx="28954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i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ar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s of the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rse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tles of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8" name="Picture 5" descr="point02b.jpg"/>
          <p:cNvPicPr/>
          <p:nvPr/>
        </p:nvPicPr>
        <p:blipFill>
          <a:blip r:embed="rId2"/>
          <a:stretch/>
        </p:blipFill>
        <p:spPr>
          <a:xfrm>
            <a:off x="3124080" y="3368520"/>
            <a:ext cx="239724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4 by Robin L. Simmons. All Rights Reserved.</dc:description>
  <cp:keywords>capitalization Grammar Bytes! Robin L. Simmons</cp:keywords>
  <dc:language>en-US</dc:language>
  <cp:lastModifiedBy>Nadia Williams</cp:lastModifiedBy>
  <dcterms:modified xsi:type="dcterms:W3CDTF">2014-02-27T15:20:07Z</dcterms:modified>
  <cp:revision>136</cp:revision>
  <dc:subject/>
  <dc:title>Capital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